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C662-5BDB-422A-8083-CB6F469A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F62-13F4-404C-A6AA-3CA24DD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46C-1F4B-4D36-BC37-496B71DA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70AE-9A2C-45E1-9653-963F8CD4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E127-95C9-43B4-AFF1-549E050D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BE66-EC29-4784-BE5D-0A21D72D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9A75-FC27-4F2A-9883-20497653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683A-1C1A-4916-91E3-4A9F41C1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3EDD-9B21-428E-9CD0-FFAF83B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BD3F-0027-4F06-A20A-3EC3ED3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163-F0CE-444C-AC27-434AB7F3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D24-50F7-422F-9E48-659C91D2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9E7-EAD3-4547-9146-6834461F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FEF9-74F8-43F9-B678-BECC278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4726-80D2-46C7-83E4-A41A12ED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10E-98DB-4071-9791-19A007F3A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991-39FA-4EC6-9E4D-9A28338DD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92B30-4B60-4454-9F79-4E7C560F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1067-709C-450A-A55F-923ECA96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CDBB6-2FB6-4F8B-BB5C-ED468C61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C583-8C92-4E13-A6C0-B22A4D96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002C0-4B04-4282-A9D7-87D1BEA7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0A2-7202-41B9-B7F8-22F880DF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22D02-1A29-4852-8A29-2BFF46FB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0F6F-B81D-4F59-8AA3-C01A2EF8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8A73-94BD-431B-B5EB-8244295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07DD-D77A-410A-A494-FDFF872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E6229-21E3-41B9-B6AC-B27944C6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326BE-4549-4C9C-B09E-23BE504E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FBCB-357C-454A-83E0-C200A012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E32E-082D-4522-831C-D008DF60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023CE-0782-413B-B543-B0D0B08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7BCAB-34C6-45DB-8130-212DB552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D9E-141D-4B56-98B5-4836B6A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65D2-3E70-428B-8AF1-29B3FF8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B326C-459C-4A85-AE7C-A4AFE609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47A95-D0A9-4BD4-958E-A1E1D988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A0B51-7653-4AA8-BD46-BE6E5350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5FF5-5458-4235-907C-0D081CEA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1DCE-417E-4758-B7AF-AAE5EF6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E9E05-6EA2-4B12-841C-102A9B1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A7CA-0D08-4CF1-A6AF-3459E195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06CD-1A9E-48FD-8523-08D5A091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F3455-528D-40F3-A2DE-84346712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2DC-DAA1-45FD-8F64-CAA7D525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7F49-C2F5-4677-A096-BFD5BA99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FCBA0-6960-4F24-9497-C89A89C5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E1BA2-085C-4F93-B6F6-4B42FD14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C6CD-8356-4D17-808F-03C8C4E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1153-479E-4A73-876F-7B58B730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10C50-C1AD-4F28-8BEB-96779818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BEC73-4828-4509-BC5C-1A5EF7C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15F3C-B250-4568-9CA4-6E04C0F0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71E9-57F1-43EA-BB98-0CF62DDA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1146B-AF42-46C6-9467-851292E8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7E5-F190-4689-8CCC-ABC8A20A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BA19-8871-4DE2-95CC-0961A4EC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F468B-4169-4F1B-939B-DCDA0F26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A3AE8-627F-440F-9D62-5A78095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B2220-5BB4-47D6-8308-2FAF75A8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F8344-9065-48F4-AF0A-911D12F1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DAE32-059B-4D1C-AFEC-E77E44B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60459-0F7A-47EA-9577-128D4733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90F77-3B51-45CA-94F7-AE02CAA3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603F5-D2ED-41B2-A79E-78FC97ED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3CD6-455E-4643-85BF-2D30B6F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5D3-040A-4A78-9307-2FE750C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F278E-B4A8-4D7E-B997-20F91E99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808BE-A442-468A-AAC7-16BC819A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28BCC-44CF-4EFC-95D1-7BE21084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1EE-8E5D-4A27-81A0-B349DB6E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3828-D3BE-46DC-B463-44B27C34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3B7-2838-48F6-85AC-82A6DA97752E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70f"/>
            </a:gs>
            <a:gs pos="100000">
              <a:srgbClr val="838b7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C482-1E3F-4EB3-B82A-1B369ECF35B4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70f"/>
            </a:gs>
            <a:gs pos="100000">
              <a:srgbClr val="838b7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175C-3B3E-4AE1-9D75-93B5D70A8F11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F18A-5498-4704-A2B9-8ABAD3D2F7FC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A6D6-7549-4969-A74D-C5F60C40B829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bb893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bb89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C553-BCF7-412A-8A8B-A68E1DFAD043}" type="slidenum">
              <a:rPr b="0" lang="en-US" sz="1000" spc="-1" strike="noStrike">
                <a:solidFill>
                  <a:srgbClr val="bbb89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ranklin Gothic Book"/>
              </a:rPr>
              <a:t>Information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1523520"/>
            <a:ext cx="7467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10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kki made peanut butter cookies.  At 4:10 P.M. Nikki put the first dozen cookies into the oven.  She continued baking until she had baked 5 dozen cookies in 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on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560" y="11426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first dozen cookies baked for 10 minutes, what time did Nikki take them out of the o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ues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0663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the total number of cookies that Nikki baked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ednes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28600" y="10663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ki had a party, and her friends ate 32 of the cookies.  How many cookies did she have lef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Thurs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1142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ki put all the cookies in a cookie jar.  When she opened the jar again, there were 18 cookies.  How many cookies had been tak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Frida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8240" y="11426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kki put 5 cookies into each of 6 bags to take to her friends.  How many cookies did she have lef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21:58:47Z</dcterms:created>
  <dc:creator>127partidak</dc:creator>
  <dc:description/>
  <dc:language>en-US</dc:language>
  <cp:lastModifiedBy>127partidak</cp:lastModifiedBy>
  <dcterms:modified xsi:type="dcterms:W3CDTF">2012-01-06T22:09:23Z</dcterms:modified>
  <cp:revision>2</cp:revision>
  <dc:subject/>
  <dc:title>Information</dc:title>
</cp:coreProperties>
</file>